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5.png" ContentType="image/png"/>
  <Override PartName="/ppt/media/image24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30.png" ContentType="image/png"/>
  <Override PartName="/ppt/media/image11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D8DF-B50E-4307-A042-DF00DCFC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F12-831F-4630-9318-76D591E5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BADC-AEA9-45AD-8FA2-FB31B931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22D-264F-4B7A-9523-251CCF86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7DB5-D1F0-4CAF-A34E-C7669390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EA5-C598-4A1C-83F5-85BD04F0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A99-9623-4C6D-97E5-6EF25D43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1E59-11EC-4FF6-BF64-FDB05E26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6EE-59D2-4E83-9913-5AD94BBC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5A5-6455-4E9E-8E1F-5EE401CC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F2D-6998-4CAB-A4F1-347DBEB3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3BD7-14AD-488C-A53D-97F7F29F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E3D7-889F-4918-AD84-4F4800F82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teachermatters.com/classroom-discipline/models-of-discipline/the-kounin-model.html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presentationhelper.co.uk/powerpoint-templates/00010/468slide1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785320" y="1295280"/>
            <a:ext cx="33415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Classroo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The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alibri"/>
              </a:rPr>
              <a:t>JACOB KOUN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2" descr=""/>
          <p:cNvPicPr/>
          <p:nvPr/>
        </p:nvPicPr>
        <p:blipFill>
          <a:blip r:embed="rId2"/>
          <a:stretch/>
        </p:blipFill>
        <p:spPr>
          <a:xfrm>
            <a:off x="2212920" y="255600"/>
            <a:ext cx="4437000" cy="1152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3124080" y="1600200"/>
            <a:ext cx="5334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ability to attend to multiple situations/students at the sam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eacher has the ability to multi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 example: The teacher is able to speak to the class about a topic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walk around the classroom to monitor their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t0.gstatic.com/images?q=tbn:ANd9GcR-TyVlMQMEA8Q5djXgss3HAHsBIRtp_mjznTRzxJNETXGWmM6c"/>
          <p:cNvPicPr/>
          <p:nvPr/>
        </p:nvPicPr>
        <p:blipFill>
          <a:blip r:embed="rId3"/>
          <a:stretch/>
        </p:blipFill>
        <p:spPr>
          <a:xfrm>
            <a:off x="609480" y="2971800"/>
            <a:ext cx="2057400" cy="3459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2" descr=""/>
          <p:cNvPicPr/>
          <p:nvPr/>
        </p:nvPicPr>
        <p:blipFill>
          <a:blip r:embed="rId2"/>
          <a:stretch/>
        </p:blipFill>
        <p:spPr>
          <a:xfrm>
            <a:off x="523800" y="347760"/>
            <a:ext cx="7974000" cy="1116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2982600" y="2057400"/>
            <a:ext cx="523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men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mooth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ran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intaining Group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2" descr=""/>
          <p:cNvPicPr/>
          <p:nvPr/>
        </p:nvPicPr>
        <p:blipFill>
          <a:blip r:embed="rId2"/>
          <a:stretch/>
        </p:blipFill>
        <p:spPr>
          <a:xfrm>
            <a:off x="3790800" y="208080"/>
            <a:ext cx="4341960" cy="11030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3200400" y="2014920"/>
            <a:ext cx="54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The teacher sets a direction and does not lose focus on their lesson. The teacher avoids going off to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The teacher is able to transition the students from one activity to another without having too many disru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http://t3.gstatic.com/images?q=tbn:ANd9GcTrrS5CjFLmW8MixQS3PXrJXQbMfM6EuVURHxK7UDE-8fKjW0mu"/>
          <p:cNvPicPr/>
          <p:nvPr/>
        </p:nvPicPr>
        <p:blipFill>
          <a:blip r:embed="rId3"/>
          <a:stretch/>
        </p:blipFill>
        <p:spPr>
          <a:xfrm>
            <a:off x="380880" y="380880"/>
            <a:ext cx="2743200" cy="601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2" descr=""/>
          <p:cNvPicPr/>
          <p:nvPr/>
        </p:nvPicPr>
        <p:blipFill>
          <a:blip r:embed="rId2"/>
          <a:stretch/>
        </p:blipFill>
        <p:spPr>
          <a:xfrm>
            <a:off x="4059360" y="549360"/>
            <a:ext cx="4341600" cy="11397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http://bacharachblog.com/wp-content/uploads/2009/11/classroom-management.jpg"/>
          <p:cNvPicPr/>
          <p:nvPr/>
        </p:nvPicPr>
        <p:blipFill>
          <a:blip r:embed="rId3"/>
          <a:stretch/>
        </p:blipFill>
        <p:spPr>
          <a:xfrm>
            <a:off x="380880" y="380880"/>
            <a:ext cx="2819520" cy="6096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3886200" y="1287360"/>
            <a:ext cx="4191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achers should be able to make easy transitions from one activity to an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mentum must be at a consistent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teacher must be prepared and know the activity well because the teacher must be prepared for any changes that may occur that effect the activit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2" descr=""/>
          <p:cNvPicPr/>
          <p:nvPr/>
        </p:nvPicPr>
        <p:blipFill>
          <a:blip r:embed="rId2"/>
          <a:stretch/>
        </p:blipFill>
        <p:spPr>
          <a:xfrm>
            <a:off x="2736720" y="285840"/>
            <a:ext cx="6132600" cy="2597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3886200" y="1779480"/>
            <a:ext cx="4800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teacher lets the students know what is going on throughout the day and they stick with that sche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teacher is able to maintain group focus through engaging their students through interesting, interacting and mentally challenging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t0.gstatic.com/images?q=tbn:ANd9GcS0AwEEL-mnC-ezS--8BfLV66PzaFktRVb3x0nsKsAmcuD6qDA0"/>
          <p:cNvPicPr/>
          <p:nvPr/>
        </p:nvPicPr>
        <p:blipFill>
          <a:blip r:embed="rId3"/>
          <a:stretch/>
        </p:blipFill>
        <p:spPr>
          <a:xfrm>
            <a:off x="304920" y="304920"/>
            <a:ext cx="3276360" cy="6191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2" descr=""/>
          <p:cNvPicPr/>
          <p:nvPr/>
        </p:nvPicPr>
        <p:blipFill>
          <a:blip r:embed="rId2"/>
          <a:stretch/>
        </p:blipFill>
        <p:spPr>
          <a:xfrm>
            <a:off x="2541600" y="401760"/>
            <a:ext cx="3798720" cy="113508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2438280" y="1752480"/>
            <a:ext cx="5791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tudents have had enough information and begin to drift. The students are b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avoid satiation, the teacher is enthusiastic, offers challenges to the students and provides the students with a variety of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ttp://t0.gstatic.com/images?q=tbn:ANd9GcQWSrV71lYenHk7lhtYP0G0eNyosGTxtnxgTe-olGpiIGvDmeKQ"/>
          <p:cNvPicPr/>
          <p:nvPr/>
        </p:nvPicPr>
        <p:blipFill>
          <a:blip r:embed="rId2"/>
          <a:stretch/>
        </p:blipFill>
        <p:spPr>
          <a:xfrm>
            <a:off x="380880" y="380880"/>
            <a:ext cx="2743200" cy="6096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3352680" y="304920"/>
            <a:ext cx="52578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eaknes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achers can lose track of time when performing a les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achers can get distracted by students or other outside variables (the phone rings, someone walks into the classroom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teachers’ eyes cannot be on every student at all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teacher cannot always point out a student’s strength/weakn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teacher cannot always get every student involved in a les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teacher can lose control over a disruptive stud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4501080" y="533520"/>
            <a:ext cx="17611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2895480" y="937800"/>
            <a:ext cx="62485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he model presents methods of withitness and organization that teachers can use in their classr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Group alerting gains the attention of students. Group alerting also allows teachers to present to students expectations that they have for the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Overlapping provides teachers with control over several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eachers that make lessons more interesting avoid sat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eachers develop a pace with their class to achieve a precise momentum to teach a lesson appropriatel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The model helps extinguish misbehavi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t0.gstatic.com/images?q=tbn:ANd9GcQp7GMwABfuTmVFVgnSQyv_Ipyd3xmN_wajyqBFyaB3gu7WakFl"/>
          <p:cNvPicPr/>
          <p:nvPr/>
        </p:nvPicPr>
        <p:blipFill>
          <a:blip r:embed="rId2"/>
          <a:stretch/>
        </p:blipFill>
        <p:spPr>
          <a:xfrm>
            <a:off x="380880" y="380880"/>
            <a:ext cx="2667240" cy="608652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3" descr=""/>
          <p:cNvPicPr/>
          <p:nvPr/>
        </p:nvPicPr>
        <p:blipFill>
          <a:blip r:embed="rId3"/>
          <a:stretch/>
        </p:blipFill>
        <p:spPr>
          <a:xfrm>
            <a:off x="3786120" y="268200"/>
            <a:ext cx="4151520" cy="1116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3276720" y="1287360"/>
            <a:ext cx="533376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unin’s model is relevant in today’s classroo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 model is demonstrated by teachers each day to minimize inappropriate behavi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eel Kounin’s ideas will be demonstrated and used by teachers for many years to come because his practices are effective in many classrooms. I saw many of his methods used by my Practicum teacher back in the spring. Also, I feel Kounin’s methods are relevant because I have used his methods to minimize behaviors, while I was teaching my Practicum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2" descr=""/>
          <p:cNvPicPr/>
          <p:nvPr/>
        </p:nvPicPr>
        <p:blipFill>
          <a:blip r:embed="rId2"/>
          <a:stretch/>
        </p:blipFill>
        <p:spPr>
          <a:xfrm>
            <a:off x="603360" y="433440"/>
            <a:ext cx="8089920" cy="11872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2590920" y="1905120"/>
            <a:ext cx="6019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unin’s model of behavior has it’s strengths and weaknesses. However, through my experiences of teaching and observing in classroom I have witnessed Kounin’s model being used by teachers and myself. At times Kounin’s model does not always work with every problematic student. However, the model has a tendency to work with most students and maintains a well organized classroom with minimal inappropriate behavi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4" descr=""/>
          <p:cNvPicPr/>
          <p:nvPr/>
        </p:nvPicPr>
        <p:blipFill>
          <a:blip r:embed="rId2"/>
          <a:stretch/>
        </p:blipFill>
        <p:spPr>
          <a:xfrm>
            <a:off x="2030400" y="334800"/>
            <a:ext cx="5278320" cy="1128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>
            <a:off x="2666880" y="1600200"/>
            <a:ext cx="5943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Jacob Koun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classroom management theor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s main focus is on the integration of a teacher’s organization and planning, along with steady movement of a lesson and how those concepts contribute to classroom mana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 began his career  at Wayne University as an educational psychologist in 194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Rectangle 2" descr=""/>
          <p:cNvPicPr/>
          <p:nvPr/>
        </p:nvPicPr>
        <p:blipFill>
          <a:blip r:embed="rId2"/>
          <a:stretch/>
        </p:blipFill>
        <p:spPr>
          <a:xfrm>
            <a:off x="237960" y="360360"/>
            <a:ext cx="8509320" cy="11034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2743200" y="1523880"/>
            <a:ext cx="5943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are some examples of how I used Kounin’s model of behav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“Ripple Effect” – Once I called on one student for not paying attention the other students in the class lifted their heads and focused on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itness- At one point of the day, one student would always start to play with their pencils in their desk. I caught onto this misbehavior and as I was writing on the board I said “Eyes on me, no playing in your desk”. The one student I heard whisper “How does she know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lapping – As I taught my lesson, I was able to point out ideas as I walked across the classroom to monitor my stud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1" descr=""/>
          <p:cNvPicPr/>
          <p:nvPr/>
        </p:nvPicPr>
        <p:blipFill>
          <a:blip r:embed="rId1"/>
          <a:stretch/>
        </p:blipFill>
        <p:spPr>
          <a:xfrm>
            <a:off x="1785960" y="208080"/>
            <a:ext cx="5572080" cy="18158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838080" y="18288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ndrius, J. (2012).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eachers matter: The Kounin model of discipli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 Retrieved on June 9, 2012,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http://www.teachermatters.com/classroom-discipline/models-of-discipline/the-kounin-mode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ounin, J. (1977)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iscipline and group management in classroom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alabar, FL: Krieger Publishing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carpaci, R. T. (2007)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case study approach to classroom management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oston, MA: Pearson Education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http://t0.gstatic.com/images?q=tbn:ANd9GcQ9y3ULIgv4pn-8hqBJL8F1EB1gtcXQqpk2s8Ny05as9Ijtt5PJ"/>
          <p:cNvPicPr/>
          <p:nvPr/>
        </p:nvPicPr>
        <p:blipFill>
          <a:blip r:embed="rId3"/>
          <a:stretch/>
        </p:blipFill>
        <p:spPr>
          <a:xfrm>
            <a:off x="0" y="4962600"/>
            <a:ext cx="9144000" cy="1895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2" descr=""/>
          <p:cNvPicPr/>
          <p:nvPr/>
        </p:nvPicPr>
        <p:blipFill>
          <a:blip r:embed="rId2"/>
          <a:stretch/>
        </p:blipFill>
        <p:spPr>
          <a:xfrm>
            <a:off x="1938240" y="96840"/>
            <a:ext cx="5316480" cy="1135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2590920" y="1066680"/>
            <a:ext cx="510516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ounin’s 1970’s case studies on classroom management, took over five years to conduct. He experimented with college, high school and elementary stud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is research was conducted through visual observations of video tapes of 80 elementary school classro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0.gstatic.com/images?q=tbn:ANd9GcS26Cg4ZWraO1oLnHS1wENulI5bLN0sqFi1_vCAWQcYlnyoOAKsnA"/>
          <p:cNvPicPr/>
          <p:nvPr/>
        </p:nvPicPr>
        <p:blipFill>
          <a:blip r:embed="rId3"/>
          <a:stretch/>
        </p:blipFill>
        <p:spPr>
          <a:xfrm>
            <a:off x="3429000" y="4724280"/>
            <a:ext cx="2685960" cy="1704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2" descr=""/>
          <p:cNvPicPr/>
          <p:nvPr/>
        </p:nvPicPr>
        <p:blipFill>
          <a:blip r:embed="rId2"/>
          <a:stretch/>
        </p:blipFill>
        <p:spPr>
          <a:xfrm>
            <a:off x="3200400" y="255600"/>
            <a:ext cx="2670120" cy="1152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3809880" y="1600200"/>
            <a:ext cx="4343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ounin presents his novel “Discipline and Group Management in Classrooms”(1977), which is based on the integration of instructional and disciplinary aspects of the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Front Cover"/>
          <p:cNvPicPr/>
          <p:nvPr/>
        </p:nvPicPr>
        <p:blipFill>
          <a:blip r:embed="rId3"/>
          <a:stretch/>
        </p:blipFill>
        <p:spPr>
          <a:xfrm>
            <a:off x="1600200" y="1219320"/>
            <a:ext cx="1752480" cy="2614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2" descr=""/>
          <p:cNvPicPr/>
          <p:nvPr/>
        </p:nvPicPr>
        <p:blipFill>
          <a:blip r:embed="rId2"/>
          <a:stretch/>
        </p:blipFill>
        <p:spPr>
          <a:xfrm>
            <a:off x="1322280" y="433440"/>
            <a:ext cx="6437520" cy="1127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1099440" y="1523880"/>
            <a:ext cx="723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Kounin Model of Withitness &amp;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52480" y="2133720"/>
            <a:ext cx="6324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s that provide their class with effective lesson management that provides smooth pacing, transitions, alerting and individual accountability will demonstrate effective classroom behavi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t2.gstatic.com/images?q=tbn:ANd9GcSQieKo1MmAjGZ20Djsk8FHz7XUpwojE5s6Mf_YDHm_eMsZ6kD3"/>
          <p:cNvPicPr/>
          <p:nvPr/>
        </p:nvPicPr>
        <p:blipFill>
          <a:blip r:embed="rId3"/>
          <a:stretch/>
        </p:blipFill>
        <p:spPr>
          <a:xfrm>
            <a:off x="3124080" y="43434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2" descr=""/>
          <p:cNvPicPr/>
          <p:nvPr/>
        </p:nvPicPr>
        <p:blipFill>
          <a:blip r:embed="rId2"/>
          <a:stretch/>
        </p:blipFill>
        <p:spPr>
          <a:xfrm>
            <a:off x="2266920" y="208080"/>
            <a:ext cx="4346640" cy="1773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2514600" y="838080"/>
            <a:ext cx="586728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s need to be atten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s need to keep students attentive and actively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s should be able to multitask and monitor their students at all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chers should plan lesson activities that students not only enjoy, but are also challenging to stimulate their mi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2" descr=""/>
          <p:cNvPicPr/>
          <p:nvPr/>
        </p:nvPicPr>
        <p:blipFill>
          <a:blip r:embed="rId2"/>
          <a:stretch/>
        </p:blipFill>
        <p:spPr>
          <a:xfrm>
            <a:off x="835200" y="585720"/>
            <a:ext cx="7808760" cy="19382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2906280" y="2438280"/>
            <a:ext cx="523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ipple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ithi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verla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men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mooth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intaining Group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a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2" descr=""/>
          <p:cNvPicPr/>
          <p:nvPr/>
        </p:nvPicPr>
        <p:blipFill>
          <a:blip r:embed="rId2"/>
          <a:stretch/>
        </p:blipFill>
        <p:spPr>
          <a:xfrm>
            <a:off x="2236680" y="281160"/>
            <a:ext cx="4492800" cy="11268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1143000" y="1523880"/>
            <a:ext cx="723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“Ripple Effect” occurs when teachers correct the misbehavior of one student and as a result the correction of the misbehavior influences the behavior of a nearby stu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ist: Comments made to stop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t2.gstatic.com/images?q=tbn:ANd9GcQ8UgRg8M7V5R8EF6PyR7NDBHIW4FljgnB8mTeavM_apoEmxvJI"/>
          <p:cNvPicPr/>
          <p:nvPr/>
        </p:nvPicPr>
        <p:blipFill>
          <a:blip r:embed="rId3"/>
          <a:stretch/>
        </p:blipFill>
        <p:spPr>
          <a:xfrm>
            <a:off x="6324480" y="4038480"/>
            <a:ext cx="2494080" cy="243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t1.gstatic.com/images?q=tbn:ANd9GcRz2_p9WKAw_YE4lsrZLznlmPBASsD_g3I3bCPqSOjpYtlB9OQj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2" descr=""/>
          <p:cNvPicPr/>
          <p:nvPr/>
        </p:nvPicPr>
        <p:blipFill>
          <a:blip r:embed="rId2"/>
          <a:stretch/>
        </p:blipFill>
        <p:spPr>
          <a:xfrm>
            <a:off x="2724120" y="237960"/>
            <a:ext cx="4073400" cy="120024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3886200" y="1371600"/>
            <a:ext cx="4343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eacher should have the skills to be able to know what is going on in the classroom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a sense the teacher should have eyes in the back of their he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t3.gstatic.com/images?q=tbn:ANd9GcQHSHq8z7w_5V4Yq-iCZrW-J_0W_l5aIkqXaAlqoeHXoX_Angjl"/>
          <p:cNvPicPr/>
          <p:nvPr/>
        </p:nvPicPr>
        <p:blipFill>
          <a:blip r:embed="rId3"/>
          <a:stretch/>
        </p:blipFill>
        <p:spPr>
          <a:xfrm>
            <a:off x="457200" y="3048120"/>
            <a:ext cx="3019320" cy="3457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2T18:02:31Z</dcterms:created>
  <dc:creator>Brandon Luroe</dc:creator>
  <dc:description/>
  <dc:language>en-US</dc:language>
  <cp:lastModifiedBy>Brandon Luroe</cp:lastModifiedBy>
  <dcterms:modified xsi:type="dcterms:W3CDTF">2012-06-13T01:41:14Z</dcterms:modified>
  <cp:revision>54</cp:revision>
  <dc:subject/>
  <dc:title>Slide 1</dc:title>
</cp:coreProperties>
</file>